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57B2-FF41-4DC6-A55C-25A9232BC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5965-8196-4139-A000-32B737B0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9603-3B6C-44A1-AD5B-F2C8458C8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C9A9-EFB9-4942-B483-A9086C181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1CA5-9E64-422F-9E2D-A00E67F7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C7B6-13DF-4A94-93B7-F8EA3BB9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0AE2C-F110-4EDC-8736-B4B5199B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DC08-4CFE-4FF8-8668-18C930B4F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DC46-FCB2-4E83-B80C-4CAD6286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923DE-EB5A-40CB-8C5F-07EBE0E21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5708-0420-4BF8-8290-868241D5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351-BE0F-4D85-BAD1-21FE0F4AF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0E6C-0A44-478A-B0A7-386473C9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0CFA-E2BD-4312-A3B8-2418E1CE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563EB-F6E2-4563-A6F9-2056B42D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C4CE8-2C3E-4876-AF5A-F307B5214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34CF8-93E7-4E5A-833D-1483370A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BD89-9BC4-4697-8006-18B654C02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DFAB-1124-4240-8992-9657498D1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BF4F-B5D7-4D74-ACEE-D0D1D4CD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DEA7-28FC-4FC2-B730-299BC933D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182A-8209-449A-80CB-70D7A487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5DDF-81A0-4958-A022-CCA3CB8B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152A-709A-4B71-9D84-72842FE8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A874-7B35-4DE1-BF76-DF39FB236A8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A947-40EE-448D-A154-0E856FB402F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495600" y="4206960"/>
            <a:ext cx="1752840" cy="459720"/>
          </a:xfrm>
          <a:prstGeom prst="rect">
            <a:avLst/>
          </a:prstGeom>
          <a:noFill/>
          <a:ln w="19080">
            <a:solidFill>
              <a:srgbClr val="00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市场秩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2286000"/>
            <a:ext cx="914400" cy="459720"/>
          </a:xfrm>
          <a:prstGeom prst="rect">
            <a:avLst/>
          </a:prstGeom>
          <a:noFill/>
          <a:ln w="19080">
            <a:solidFill>
              <a:srgbClr val="00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市场失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87480" y="1965240"/>
            <a:ext cx="533520" cy="1557000"/>
          </a:xfrm>
          <a:prstGeom prst="rect">
            <a:avLst/>
          </a:prstGeom>
          <a:noFill/>
          <a:ln w="19080">
            <a:solidFill>
              <a:srgbClr val="0000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市场调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00520" y="2050920"/>
            <a:ext cx="1066680" cy="82548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市场配置资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57320" y="1508040"/>
            <a:ext cx="1119240" cy="45972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09680"/>
            <a:ext cx="1119240" cy="82548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市场经济含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3581280"/>
            <a:ext cx="1098720" cy="45972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优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707160" y="1806480"/>
            <a:ext cx="1849320" cy="45972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不是万能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3200400"/>
            <a:ext cx="914400" cy="45972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弊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979640" y="5445000"/>
            <a:ext cx="1944720" cy="45972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国家（政府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5445000"/>
            <a:ext cx="2698920" cy="459720"/>
          </a:xfrm>
          <a:prstGeom prst="rect">
            <a:avLst/>
          </a:prstGeom>
          <a:noFill/>
          <a:ln w="1908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经济活动的参与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14720" y="1757520"/>
            <a:ext cx="500040" cy="2004840"/>
          </a:xfrm>
          <a:custGeom>
            <a:avLst/>
            <a:gdLst>
              <a:gd name="textAreaLeft" fmla="*/ 0 w 500040"/>
              <a:gd name="textAreaRight" fmla="*/ 180360 w 500040"/>
              <a:gd name="textAreaTop" fmla="*/ 0 h 2004840"/>
              <a:gd name="textAreaBottom" fmla="*/ 2005200 h 200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033"/>
                </a:lnTo>
                <a:cubicBezTo>
                  <a:pt x="10800" y="10033"/>
                  <a:pt x="16200" y="10033"/>
                  <a:pt x="21600" y="10033"/>
                </a:cubicBezTo>
                <a:cubicBezTo>
                  <a:pt x="16200" y="10033"/>
                  <a:pt x="10800" y="10033"/>
                  <a:pt x="10800" y="10033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4116240" y="3503520"/>
            <a:ext cx="503280" cy="3097080"/>
          </a:xfrm>
          <a:custGeom>
            <a:avLst/>
            <a:gdLst>
              <a:gd name="textAreaLeft" fmla="*/ 0 w 503280"/>
              <a:gd name="textAreaRight" fmla="*/ 181800 w 503280"/>
              <a:gd name="textAreaTop" fmla="*/ 2520 h 3097080"/>
              <a:gd name="textAreaBottom" fmla="*/ 3094560 h 30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1"/>
                  <a:pt x="10800" y="61"/>
                </a:cubicBezTo>
                <a:lnTo>
                  <a:pt x="10800" y="10739"/>
                </a:lnTo>
                <a:cubicBezTo>
                  <a:pt x="10800" y="10770"/>
                  <a:pt x="16200" y="10800"/>
                  <a:pt x="21600" y="10800"/>
                </a:cubicBezTo>
                <a:cubicBezTo>
                  <a:pt x="16200" y="10800"/>
                  <a:pt x="10800" y="10831"/>
                  <a:pt x="10800" y="10861"/>
                </a:cubicBezTo>
                <a:lnTo>
                  <a:pt x="10800" y="21539"/>
                </a:lnTo>
                <a:cubicBezTo>
                  <a:pt x="10800" y="2157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65640" y="2608200"/>
            <a:ext cx="380880" cy="228600"/>
          </a:xfrm>
          <a:prstGeom prst="leftArrow">
            <a:avLst>
              <a:gd name="adj1" fmla="val 50000"/>
              <a:gd name="adj2" fmla="val 41654"/>
            </a:avLst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900680" y="261792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43320" y="3530520"/>
            <a:ext cx="243000" cy="470160"/>
          </a:xfrm>
          <a:prstGeom prst="downArrow">
            <a:avLst>
              <a:gd name="adj1" fmla="val 50000"/>
              <a:gd name="adj2" fmla="val 48370"/>
            </a:avLst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324480" y="2057400"/>
            <a:ext cx="381240" cy="1371600"/>
          </a:xfrm>
          <a:custGeom>
            <a:avLst/>
            <a:gdLst>
              <a:gd name="textAreaLeft" fmla="*/ 243720 w 381240"/>
              <a:gd name="textAreaRight" fmla="*/ 381600 w 381240"/>
              <a:gd name="textAreaTop" fmla="*/ 2160 h 1371600"/>
              <a:gd name="textAreaBottom" fmla="*/ 136944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"/>
                  <a:pt x="10800" y="123"/>
                </a:cubicBezTo>
                <a:lnTo>
                  <a:pt x="10800" y="10427"/>
                </a:lnTo>
                <a:cubicBezTo>
                  <a:pt x="10800" y="10489"/>
                  <a:pt x="5400" y="10550"/>
                  <a:pt x="0" y="10550"/>
                </a:cubicBezTo>
                <a:cubicBezTo>
                  <a:pt x="5400" y="10550"/>
                  <a:pt x="10800" y="10612"/>
                  <a:pt x="10800" y="10673"/>
                </a:cubicBezTo>
                <a:lnTo>
                  <a:pt x="10800" y="21477"/>
                </a:lnTo>
                <a:cubicBezTo>
                  <a:pt x="10800" y="2153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696080" y="289548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440 h 914400"/>
              <a:gd name="textAreaBottom" fmla="*/ 91296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2"/>
                  <a:pt x="10800" y="123"/>
                </a:cubicBezTo>
                <a:lnTo>
                  <a:pt x="10800" y="10427"/>
                </a:lnTo>
                <a:cubicBezTo>
                  <a:pt x="10800" y="10489"/>
                  <a:pt x="5400" y="10550"/>
                  <a:pt x="0" y="10550"/>
                </a:cubicBezTo>
                <a:cubicBezTo>
                  <a:pt x="5400" y="10550"/>
                  <a:pt x="10800" y="10612"/>
                  <a:pt x="10800" y="10673"/>
                </a:cubicBezTo>
                <a:lnTo>
                  <a:pt x="10800" y="21477"/>
                </a:lnTo>
                <a:cubicBezTo>
                  <a:pt x="10800" y="21539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848720" y="2743200"/>
            <a:ext cx="11430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f858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自发性  盲目性  滞后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60280"/>
            <a:ext cx="74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ahoma"/>
                <a:ea typeface="黑体"/>
              </a:rPr>
              <a:t>知识点回顾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5016600" y="581976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016600" y="63388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44197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宏观调控的含义、主要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38862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宏观调控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必要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85080" y="4149720"/>
            <a:ext cx="76320" cy="304920"/>
          </a:xfrm>
          <a:prstGeom prst="downArrow">
            <a:avLst>
              <a:gd name="adj1" fmla="val 50000"/>
              <a:gd name="adj2" fmla="val 99882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7308720" y="4653000"/>
            <a:ext cx="1209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9080">
                  <a:solidFill>
                    <a:srgbClr val="ffcc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（是什么）</a:t>
            </a:r>
            <a:endParaRPr b="0" lang="en-US" sz="3200" spc="1" strike="noStrike">
              <a:ln w="19080">
                <a:solidFill>
                  <a:srgbClr val="ffcc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7324560" y="3429000"/>
            <a:ext cx="10573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琥珀"/>
              </a:rPr>
              <a:t>（为什么）</a:t>
            </a:r>
            <a:endParaRPr b="0" lang="en-US" sz="3200" spc="1" strike="noStrike">
              <a:ln w="19080">
                <a:solidFill>
                  <a:srgbClr val="ffff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琥珀"/>
              <a:ea typeface="华文琥珀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33520" y="5056200"/>
            <a:ext cx="6858000" cy="1818000"/>
            <a:chOff x="533520" y="5056200"/>
            <a:chExt cx="6858000" cy="1818000"/>
          </a:xfrm>
        </p:grpSpPr>
        <p:sp>
          <p:nvSpPr>
            <p:cNvPr id="175" name=""/>
            <p:cNvSpPr/>
            <p:nvPr/>
          </p:nvSpPr>
          <p:spPr>
            <a:xfrm flipV="1">
              <a:off x="4486320" y="5410440"/>
              <a:ext cx="924120" cy="52056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419720" y="6019920"/>
              <a:ext cx="990720" cy="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486320" y="6096240"/>
              <a:ext cx="857160" cy="52056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8" name=""/>
            <p:cNvGrpSpPr/>
            <p:nvPr/>
          </p:nvGrpSpPr>
          <p:grpSpPr>
            <a:xfrm>
              <a:off x="533520" y="5562720"/>
              <a:ext cx="4343400" cy="1112760"/>
              <a:chOff x="533520" y="5562720"/>
              <a:chExt cx="4343400" cy="1112760"/>
            </a:xfrm>
          </p:grpSpPr>
          <p:sp>
            <p:nvSpPr>
              <p:cNvPr id="179" name=""/>
              <p:cNvSpPr/>
              <p:nvPr/>
            </p:nvSpPr>
            <p:spPr>
              <a:xfrm>
                <a:off x="533520" y="5654880"/>
                <a:ext cx="4343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  </a:t>
                </a:r>
                <a:r>
                  <a:rPr b="1" lang="zh-CN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宏观调控的手段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143000" y="55627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905120" y="6033960"/>
                <a:ext cx="1839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6400800" y="5119920"/>
              <a:ext cx="990720" cy="1663560"/>
              <a:chOff x="6400800" y="5119920"/>
              <a:chExt cx="990720" cy="1663560"/>
            </a:xfrm>
          </p:grpSpPr>
          <p:sp>
            <p:nvSpPr>
              <p:cNvPr id="183" name=""/>
              <p:cNvSpPr/>
              <p:nvPr/>
            </p:nvSpPr>
            <p:spPr>
              <a:xfrm>
                <a:off x="6400800" y="5119920"/>
                <a:ext cx="9144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手段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400800" y="5669280"/>
                <a:ext cx="990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手段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574680" y="6262920"/>
                <a:ext cx="60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手段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5486400" y="5056200"/>
              <a:ext cx="121932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经济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法律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行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7885080" y="5373720"/>
            <a:ext cx="76320" cy="304920"/>
          </a:xfrm>
          <a:prstGeom prst="downArrow">
            <a:avLst>
              <a:gd name="adj1" fmla="val 50000"/>
              <a:gd name="adj2" fmla="val 99882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7308720" y="5877000"/>
            <a:ext cx="1419480" cy="35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（怎么调）</a:t>
            </a:r>
            <a:endParaRPr b="0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3276720"/>
            <a:ext cx="475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加强宏观调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05320" y="318960"/>
            <a:ext cx="2209680" cy="51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隶书"/>
              </a:rPr>
              <a:t>课堂小结</a:t>
            </a:r>
            <a:endParaRPr b="1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隶书"/>
              <a:ea typeface="华文隶书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92700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社会主义市场经济的含义、基本特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79440" y="1589040"/>
            <a:ext cx="702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坚持公有制的主体地位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基本标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327320" y="2209680"/>
            <a:ext cx="568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实现共同富裕  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———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根本目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28195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实行科学的宏观调控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———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调控力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黑体"/>
                <a:ea typeface="黑体"/>
              </a:rPr>
              <a:t>第九课  发展社会主义市场经济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3213000"/>
            <a:ext cx="8229600" cy="15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solidFill>
                  <a:srgbClr val="000080"/>
                </a:solidFill>
                <a:latin typeface="黑体"/>
              </a:rPr>
              <a:t>社会主义市场经济</a:t>
            </a:r>
            <a:endParaRPr b="1" lang="en-US" sz="8000" spc="1" strike="noStrike">
              <a:ln w="0">
                <a:noFill/>
              </a:ln>
              <a:solidFill>
                <a:srgbClr val="000080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二、科学的宏观调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153280" cy="9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加强宏观调控的必要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2637000"/>
            <a:ext cx="792180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弥补市场调节的不足</a:t>
            </a: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黑体"/>
                <a:ea typeface="黑体"/>
              </a:rPr>
              <a:t>            </a:t>
            </a:r>
            <a:r>
              <a:rPr b="1" lang="zh-CN" sz="3000" spc="-1" strike="noStrike">
                <a:solidFill>
                  <a:srgbClr val="0000cc"/>
                </a:solidFill>
                <a:latin typeface="黑体"/>
                <a:ea typeface="黑体"/>
              </a:rPr>
              <a:t>自发性、滞后性、盲目性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宏观调控是政府的</a:t>
            </a:r>
            <a:r>
              <a:rPr b="1" lang="zh-CN" sz="3000" spc="-1" strike="noStrike">
                <a:solidFill>
                  <a:srgbClr val="0000cc"/>
                </a:solidFill>
                <a:latin typeface="黑体"/>
                <a:ea typeface="黑体"/>
              </a:rPr>
              <a:t>主要职责和作用之一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685800" y="762120"/>
            <a:ext cx="457200" cy="45720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2852640"/>
            <a:ext cx="304560" cy="1828800"/>
          </a:xfrm>
          <a:custGeom>
            <a:avLst/>
            <a:gdLst>
              <a:gd name="textAreaLeft" fmla="*/ 194760 w 304560"/>
              <a:gd name="textAreaRight" fmla="*/ 304920 w 30456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、宏观调控的含义、目标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0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(1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宏观调控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含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是指国家综合运用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各种手段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对国民经济进行调节和控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(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宏观调控的主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目标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促进经济增长，增加就业，稳定物价，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保持国际收支平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120600"/>
            <a:ext cx="7435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我国宏观调控的手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1197000"/>
            <a:ext cx="236232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经济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手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3716280"/>
            <a:ext cx="236232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法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手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79280" y="5516640"/>
            <a:ext cx="2362320" cy="70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黑体"/>
              </a:rPr>
              <a:t>行政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手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2421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最常用的经济手段：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财政政策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货币政策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627280" y="907920"/>
            <a:ext cx="289080" cy="1297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987640" y="907920"/>
            <a:ext cx="61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  <a:ea typeface="黑体"/>
              </a:rPr>
              <a:t>经济政策：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财政、货币、价格等政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87640" y="162864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  <a:ea typeface="黑体"/>
              </a:rPr>
              <a:t>经济规划：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目标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771640" y="3573360"/>
            <a:ext cx="287640" cy="1009800"/>
          </a:xfrm>
          <a:custGeom>
            <a:avLst/>
            <a:gdLst>
              <a:gd name="textAreaLeft" fmla="*/ 183960 w 287640"/>
              <a:gd name="textAreaRight" fmla="*/ 288000 w 28764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5300640"/>
            <a:ext cx="289080" cy="1297080"/>
          </a:xfrm>
          <a:custGeom>
            <a:avLst/>
            <a:gdLst>
              <a:gd name="textAreaLeft" fmla="*/ 184680 w 289080"/>
              <a:gd name="textAreaRight" fmla="*/ 289080 w 28908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3640" y="335772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  <a:ea typeface="黑体"/>
              </a:rPr>
              <a:t>制定、完善法律法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76720" y="4149720"/>
            <a:ext cx="41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ahoma"/>
                <a:ea typeface="黑体"/>
              </a:rPr>
              <a:t>加强执法监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58800" y="3357720"/>
            <a:ext cx="239004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经济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司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经济</a:t>
            </a:r>
            <a:r>
              <a:rPr b="1" lang="zh-CN" sz="2400" spc="-1" strike="noStrike">
                <a:solidFill>
                  <a:srgbClr val="000099"/>
                </a:solidFill>
                <a:latin typeface="黑体"/>
                <a:ea typeface="黑体"/>
              </a:rPr>
              <a:t>立法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515772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政府：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指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03640" y="6165720"/>
            <a:ext cx="37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黑体"/>
              </a:rPr>
              <a:t>政府：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  <a:ea typeface="黑体"/>
              </a:rPr>
              <a:t>命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0" y="260280"/>
          <a:ext cx="8964360" cy="6048000"/>
        </p:xfrm>
        <a:graphic>
          <a:graphicData uri="http://schemas.openxmlformats.org/drawingml/2006/table">
            <a:tbl>
              <a:tblPr/>
              <a:tblGrid>
                <a:gridCol w="1961280"/>
                <a:gridCol w="3335760"/>
                <a:gridCol w="3667320"/>
              </a:tblGrid>
              <a:tr h="137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 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市场调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（看不见的手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  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宏观调控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（看得见的手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 </a:t>
                      </a:r>
                      <a:r>
                        <a:rPr b="0" lang="zh-CN" sz="36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联系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都是现代市场经济条件下资源配置的手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92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Arial"/>
                          <a:ea typeface="黑体"/>
                        </a:rPr>
                        <a:t>调节手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价格、供求、竞争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   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经济、法律手段为主，辅之以必要的行政手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2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 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决定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作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弥补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市场机制的</a:t>
                      </a:r>
                      <a:r>
                        <a:rPr b="1" lang="zh-CN" sz="25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不足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"/>
          <p:cNvSpPr/>
          <p:nvPr/>
        </p:nvSpPr>
        <p:spPr>
          <a:xfrm>
            <a:off x="0" y="5373720"/>
            <a:ext cx="8964720" cy="0"/>
          </a:xfrm>
          <a:prstGeom prst="line">
            <a:avLst/>
          </a:prstGeom>
          <a:ln cap="sq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4508640"/>
            <a:ext cx="8893080" cy="0"/>
          </a:xfrm>
          <a:prstGeom prst="line">
            <a:avLst/>
          </a:prstGeom>
          <a:ln cap="sq"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357336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ahoma"/>
                <a:ea typeface="黑体"/>
              </a:rPr>
              <a:t>在市场经济中的地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458136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ahoma"/>
                <a:ea typeface="黑体"/>
              </a:rPr>
              <a:t>优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4508640"/>
            <a:ext cx="33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黑体"/>
              </a:rPr>
              <a:t>及时反映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供求关系、生产效率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1640" y="450864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黑体"/>
              </a:rPr>
              <a:t>主动性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黑体"/>
              </a:rPr>
              <a:t>预见性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，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黑体"/>
              </a:rPr>
              <a:t>弥补市场机制不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551664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Tahoma"/>
                <a:ea typeface="黑体"/>
              </a:rPr>
              <a:t>局限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556000" y="5516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固有弊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08720" y="5445000"/>
            <a:ext cx="36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决策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黑体"/>
              </a:rPr>
              <a:t>失误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或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黑体"/>
              </a:rPr>
              <a:t>过多干预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  <a:ea typeface="黑体"/>
              </a:rPr>
              <a:t>会干扰市场经济的正常运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经济手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457200" y="1125360"/>
          <a:ext cx="8381880" cy="5551560"/>
        </p:xfrm>
        <a:graphic>
          <a:graphicData uri="http://schemas.openxmlformats.org/drawingml/2006/table">
            <a:tbl>
              <a:tblPr/>
              <a:tblGrid>
                <a:gridCol w="1828800"/>
                <a:gridCol w="3124080"/>
                <a:gridCol w="3429000"/>
              </a:tblGrid>
              <a:tr h="95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财政政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货币政策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3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相同点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都是经济手段，都是宏观调控的重要方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 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制定者不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国务院财政部门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制定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中国人民银行</a:t>
                      </a:r>
                      <a:r>
                        <a:rPr b="0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直接制定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78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涵义不同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指政府通过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财政收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和财政支出总量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的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节来影响总需求，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之与总供给适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控制</a:t>
                      </a:r>
                      <a:r>
                        <a:rPr b="1" lang="zh-CN" sz="25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货币的供应量、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信贷量、利率</a:t>
                      </a: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等进行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调节和控制而采取的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5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措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0" y="0"/>
            <a:ext cx="4114800" cy="4038480"/>
          </a:xfrm>
          <a:prstGeom prst="ellipse">
            <a:avLst/>
          </a:prstGeom>
          <a:gradFill rotWithShape="0">
            <a:gsLst>
              <a:gs pos="0">
                <a:srgbClr val="e6e6e6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1371600"/>
            <a:ext cx="1143000" cy="1066680"/>
          </a:xfrm>
          <a:prstGeom prst="ellipse">
            <a:avLst/>
          </a:prstGeom>
          <a:solidFill>
            <a:srgbClr val="f6f8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4724280"/>
            <a:ext cx="8001000" cy="190512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228600"/>
            <a:ext cx="1219320" cy="1295280"/>
          </a:xfrm>
          <a:prstGeom prst="ellipse">
            <a:avLst/>
          </a:prstGeom>
          <a:solidFill>
            <a:srgbClr val="f6f8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30492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五年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彩云"/>
              </a:rPr>
              <a:t>计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2743200"/>
            <a:ext cx="1371600" cy="1143000"/>
          </a:xfrm>
          <a:prstGeom prst="ellipse">
            <a:avLst/>
          </a:prstGeom>
          <a:solidFill>
            <a:srgbClr val="f6f8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33720" y="26668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十年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2057400"/>
            <a:ext cx="1295280" cy="1295280"/>
          </a:xfrm>
          <a:prstGeom prst="ellipse">
            <a:avLst/>
          </a:prstGeom>
          <a:solidFill>
            <a:srgbClr val="f6f8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2057400"/>
            <a:ext cx="119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年度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彩云"/>
              </a:rPr>
              <a:t>计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0"/>
            <a:ext cx="1371600" cy="1066680"/>
          </a:xfrm>
          <a:prstGeom prst="ellipse">
            <a:avLst/>
          </a:prstGeom>
          <a:solidFill>
            <a:srgbClr val="f6f8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33720" y="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扶贫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  <a:ea typeface="华文彩云"/>
              </a:rPr>
              <a:t>政策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-4021200" y="4724280"/>
            <a:ext cx="128444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&lt;&lt;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企业法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&lt;&lt;</a:t>
            </a:r>
            <a:r>
              <a:rPr b="1" lang="zh-CN" sz="2800" spc="-1" strike="noStrike">
                <a:solidFill>
                  <a:srgbClr val="f6f8f6"/>
                </a:solidFill>
                <a:latin typeface="宋体"/>
              </a:rPr>
              <a:t>劳动法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f8f6"/>
                </a:solidFill>
                <a:latin typeface="宋体"/>
              </a:rPr>
              <a:t>&lt;&lt;</a:t>
            </a:r>
            <a:r>
              <a:rPr b="1" lang="zh-CN" sz="2800" spc="-1" strike="noStrike">
                <a:solidFill>
                  <a:srgbClr val="f6f8f6"/>
                </a:solidFill>
                <a:latin typeface="宋体"/>
              </a:rPr>
              <a:t>价格法</a:t>
            </a:r>
            <a:r>
              <a:rPr b="1" lang="en-US" sz="2800" spc="-1" strike="noStrike">
                <a:solidFill>
                  <a:srgbClr val="f6f8f6"/>
                </a:solidFill>
                <a:latin typeface="宋体"/>
              </a:rPr>
              <a:t>&gt;&gt; &lt;&lt;</a:t>
            </a:r>
            <a:r>
              <a:rPr b="1" lang="zh-CN" sz="2800" spc="-1" strike="noStrike">
                <a:solidFill>
                  <a:srgbClr val="f6f8f6"/>
                </a:solidFill>
                <a:latin typeface="宋体"/>
              </a:rPr>
              <a:t>税  法</a:t>
            </a:r>
            <a:r>
              <a:rPr b="1" lang="en-US" sz="2800" spc="-1" strike="noStrike">
                <a:solidFill>
                  <a:srgbClr val="f6f8f6"/>
                </a:solidFill>
                <a:latin typeface="宋体"/>
              </a:rPr>
              <a:t>&gt;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f8f6"/>
                </a:solidFill>
                <a:latin typeface="宋体"/>
              </a:rPr>
              <a:t>&lt;&lt;</a:t>
            </a:r>
            <a:r>
              <a:rPr b="1" lang="zh-CN" sz="2800" spc="-1" strike="noStrike">
                <a:solidFill>
                  <a:srgbClr val="f6f8f6"/>
                </a:solidFill>
                <a:latin typeface="宋体"/>
              </a:rPr>
              <a:t>破产法</a:t>
            </a:r>
            <a:r>
              <a:rPr b="1" lang="en-US" sz="2800" spc="-1" strike="noStrike">
                <a:solidFill>
                  <a:srgbClr val="f6f8f6"/>
                </a:solidFill>
                <a:latin typeface="宋体"/>
              </a:rPr>
              <a:t>&gt;&gt; &lt;&lt;</a:t>
            </a:r>
            <a:r>
              <a:rPr b="1" lang="zh-CN" sz="2800" spc="-1" strike="noStrike">
                <a:solidFill>
                  <a:srgbClr val="f6f8f6"/>
                </a:solidFill>
                <a:latin typeface="宋体"/>
              </a:rPr>
              <a:t>合同法</a:t>
            </a:r>
            <a:r>
              <a:rPr b="1" lang="en-US" sz="2800" spc="-1" strike="noStrike">
                <a:solidFill>
                  <a:srgbClr val="f6f8f6"/>
                </a:solidFill>
                <a:latin typeface="宋体"/>
              </a:rPr>
              <a:t>&gt;&gt; &lt;&lt;</a:t>
            </a:r>
            <a:r>
              <a:rPr b="1" lang="zh-CN" sz="2800" spc="-1" strike="noStrike">
                <a:solidFill>
                  <a:srgbClr val="f6f8f6"/>
                </a:solidFill>
                <a:latin typeface="宋体"/>
              </a:rPr>
              <a:t>竞争法</a:t>
            </a:r>
            <a:r>
              <a:rPr b="1" lang="en-US" sz="2800" spc="-1" strike="noStrike">
                <a:solidFill>
                  <a:srgbClr val="f6f8f6"/>
                </a:solidFill>
                <a:latin typeface="宋体"/>
              </a:rPr>
              <a:t>&gt;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f8f6"/>
                </a:solidFill>
                <a:latin typeface="宋体"/>
              </a:rPr>
              <a:t>&lt;&lt;</a:t>
            </a:r>
            <a:r>
              <a:rPr b="1" lang="zh-CN" sz="2800" spc="-1" strike="noStrike">
                <a:solidFill>
                  <a:srgbClr val="f6f8f6"/>
                </a:solidFill>
                <a:latin typeface="宋体"/>
              </a:rPr>
              <a:t>广告法</a:t>
            </a:r>
            <a:r>
              <a:rPr b="1" lang="en-US" sz="2800" spc="-1" strike="noStrike">
                <a:solidFill>
                  <a:srgbClr val="f6f8f6"/>
                </a:solidFill>
                <a:latin typeface="宋体"/>
              </a:rPr>
              <a:t>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f8f6"/>
                </a:solidFill>
                <a:latin typeface="宋体"/>
              </a:rPr>
              <a:t>&lt;&lt;</a:t>
            </a:r>
            <a:r>
              <a:rPr b="1" lang="zh-CN" sz="2800" spc="-1" strike="noStrike">
                <a:solidFill>
                  <a:srgbClr val="f6f8f6"/>
                </a:solidFill>
                <a:latin typeface="宋体"/>
              </a:rPr>
              <a:t>商标法</a:t>
            </a:r>
            <a:r>
              <a:rPr b="1" lang="en-US" sz="2800" spc="-1" strike="noStrike">
                <a:solidFill>
                  <a:srgbClr val="f6f8f6"/>
                </a:solidFill>
                <a:latin typeface="宋体"/>
              </a:rPr>
              <a:t>&gt;&gt; &lt;&lt;</a:t>
            </a:r>
            <a:r>
              <a:rPr b="1" lang="zh-CN" sz="2800" spc="-1" strike="noStrike">
                <a:solidFill>
                  <a:srgbClr val="f6f8f6"/>
                </a:solidFill>
                <a:latin typeface="宋体"/>
              </a:rPr>
              <a:t>质量法</a:t>
            </a:r>
            <a:r>
              <a:rPr b="1" lang="en-US" sz="2800" spc="-1" strike="noStrike">
                <a:solidFill>
                  <a:srgbClr val="f6f8f6"/>
                </a:solidFill>
                <a:latin typeface="宋体"/>
              </a:rPr>
              <a:t>&gt;&gt; &lt;&lt;</a:t>
            </a:r>
            <a:r>
              <a:rPr b="1" lang="zh-CN" sz="2800" spc="-1" strike="noStrike">
                <a:solidFill>
                  <a:srgbClr val="f6f8f6"/>
                </a:solidFill>
                <a:latin typeface="宋体"/>
              </a:rPr>
              <a:t>消保法</a:t>
            </a:r>
            <a:r>
              <a:rPr b="1" lang="en-US" sz="2800" spc="-1" strike="noStrike">
                <a:solidFill>
                  <a:srgbClr val="f6f8f6"/>
                </a:solidFill>
                <a:latin typeface="宋体"/>
              </a:rPr>
              <a:t>&gt;&gt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f8f6"/>
                </a:solidFill>
                <a:latin typeface="宋体"/>
              </a:rPr>
              <a:t>&lt;&lt;</a:t>
            </a:r>
            <a:r>
              <a:rPr b="1" lang="zh-CN" sz="2800" spc="-1" strike="noStrike">
                <a:solidFill>
                  <a:srgbClr val="f6f8f6"/>
                </a:solidFill>
                <a:latin typeface="宋体"/>
              </a:rPr>
              <a:t>计量法</a:t>
            </a:r>
            <a:r>
              <a:rPr b="1" lang="en-US" sz="2800" spc="-1" strike="noStrike">
                <a:solidFill>
                  <a:srgbClr val="f6f8f6"/>
                </a:solidFill>
                <a:latin typeface="宋体"/>
              </a:rPr>
              <a:t>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6f8f6"/>
                </a:solidFill>
                <a:latin typeface="宋体"/>
              </a:rPr>
              <a:t>&lt;&lt;</a:t>
            </a:r>
            <a:r>
              <a:rPr b="1" lang="zh-CN" sz="2800" spc="-1" strike="noStrike">
                <a:solidFill>
                  <a:srgbClr val="f6f8f6"/>
                </a:solidFill>
                <a:latin typeface="宋体"/>
              </a:rPr>
              <a:t>统计法</a:t>
            </a:r>
            <a:r>
              <a:rPr b="1" lang="en-US" sz="2800" spc="-1" strike="noStrike">
                <a:solidFill>
                  <a:srgbClr val="f6f8f6"/>
                </a:solidFill>
                <a:latin typeface="宋体"/>
              </a:rPr>
              <a:t>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&lt;&lt;</a:t>
            </a:r>
            <a:r>
              <a:rPr b="1" lang="zh-CN" sz="2800" spc="-1" strike="noStrike">
                <a:solidFill>
                  <a:srgbClr val="f6f8f6"/>
                </a:solidFill>
                <a:latin typeface="宋体"/>
              </a:rPr>
              <a:t>会计法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&lt;&lt;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审计法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343400" y="228600"/>
            <a:ext cx="4495680" cy="2039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962520" y="22096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据统计：我国有</a:t>
            </a:r>
            <a:r>
              <a:rPr b="1" lang="en-US" sz="2400" spc="-1" strike="noStrike">
                <a:solidFill>
                  <a:srgbClr val="ff0000"/>
                </a:solidFill>
                <a:latin typeface="华文琥珀"/>
                <a:ea typeface="华文琥珀"/>
              </a:rPr>
              <a:t>6.4</a:t>
            </a:r>
            <a:r>
              <a:rPr b="1" lang="zh-CN" sz="2400" spc="-1" strike="noStrike">
                <a:solidFill>
                  <a:srgbClr val="ff0000"/>
                </a:solidFill>
                <a:latin typeface="华文琥珀"/>
                <a:ea typeface="华文琥珀"/>
              </a:rPr>
              <a:t>万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处煤矿矿井，比国外矿井总数的</a:t>
            </a:r>
            <a:r>
              <a:rPr b="1" lang="zh-CN" sz="2400" spc="-1" strike="noStrike">
                <a:solidFill>
                  <a:srgbClr val="ff0000"/>
                </a:solidFill>
                <a:latin typeface="华文琥珀"/>
                <a:ea typeface="华文琥珀"/>
              </a:rPr>
              <a:t>两倍</a:t>
            </a:r>
            <a:r>
              <a:rPr b="1" lang="zh-CN" sz="2400" spc="-1" strike="noStrike">
                <a:solidFill>
                  <a:srgbClr val="000099"/>
                </a:solidFill>
                <a:latin typeface="宋体"/>
              </a:rPr>
              <a:t>还要多，但重复建设、安全状况、开发方式等不行，故国务院发出了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关于煤炭行业关井压产有关问题的通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228600" y="4191120"/>
            <a:ext cx="8686440" cy="533160"/>
            <a:chOff x="228600" y="4191120"/>
            <a:chExt cx="8686440" cy="533160"/>
          </a:xfrm>
        </p:grpSpPr>
        <p:sp>
          <p:nvSpPr>
            <p:cNvPr id="152" name=""/>
            <p:cNvSpPr/>
            <p:nvPr/>
          </p:nvSpPr>
          <p:spPr>
            <a:xfrm>
              <a:off x="7555680" y="4191120"/>
              <a:ext cx="1359360" cy="533160"/>
            </a:xfrm>
            <a:prstGeom prst="wedgeRoundRectCallout">
              <a:avLst>
                <a:gd name="adj1" fmla="val -54166"/>
                <a:gd name="adj2" fmla="val 158629"/>
                <a:gd name="adj3" fmla="val 16667"/>
              </a:avLst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Times New Roman"/>
                  <a:ea typeface="华文琥珀"/>
                </a:rPr>
                <a:t>法律手段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28600" y="4267080"/>
              <a:ext cx="1434960" cy="457200"/>
            </a:xfrm>
            <a:prstGeom prst="wedgeRoundRectCallout">
              <a:avLst>
                <a:gd name="adj1" fmla="val 30921"/>
                <a:gd name="adj2" fmla="val 150000"/>
                <a:gd name="adj3" fmla="val 16667"/>
              </a:avLst>
            </a:prstGeom>
            <a:solidFill>
              <a:srgbClr val="00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31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100" spc="-1" strike="noStrike">
                  <a:solidFill>
                    <a:srgbClr val="000000"/>
                  </a:solidFill>
                  <a:latin typeface="Times New Roman"/>
                  <a:ea typeface="华文琥珀"/>
                </a:rPr>
                <a:t>法律手段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7315200" y="1600200"/>
            <a:ext cx="1371600" cy="457200"/>
          </a:xfrm>
          <a:prstGeom prst="borderCallout1">
            <a:avLst>
              <a:gd name="adj1" fmla="val -16000"/>
              <a:gd name="adj2" fmla="val 25200"/>
              <a:gd name="adj3" fmla="val 19800"/>
              <a:gd name="adj4" fmla="val 25200"/>
            </a:avLst>
          </a:prstGeom>
          <a:solidFill>
            <a:srgbClr val="00ff99"/>
          </a:solidFill>
          <a:ln w="38160">
            <a:solidFill>
              <a:srgbClr val="00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行政手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371600" y="1219320"/>
            <a:ext cx="1523880" cy="1371600"/>
          </a:xfrm>
          <a:prstGeom prst="irregularSeal1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Times New Roman"/>
                <a:ea typeface="华文琥珀"/>
              </a:rPr>
              <a:t>经济手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71800" y="129528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经济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杠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044720" y="1339920"/>
            <a:ext cx="7439040" cy="25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市场是有效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资源配置方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决定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79960" y="188424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878440" y="1427040"/>
            <a:ext cx="25146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国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宏观调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弥补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906560" y="4856040"/>
          <a:ext cx="5334120" cy="200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6560" y="4856040"/>
                    <a:ext cx="5334120" cy="20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7416720" y="5373720"/>
            <a:ext cx="172728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有形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5465880"/>
            <a:ext cx="1763640" cy="642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无形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40000" y="4076640"/>
            <a:ext cx="4537080" cy="764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手拉手   向前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90120" y="189000"/>
            <a:ext cx="2649600" cy="9169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资源合理配置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11:53:12Z</dcterms:created>
  <dc:creator>高考资源网</dc:creator>
  <dc:description>高考资源网</dc:description>
  <cp:keywords>高考资源网</cp:keywords>
  <dc:language>en-US</dc:language>
  <cp:lastModifiedBy>11222</cp:lastModifiedBy>
  <cp:lastPrinted>1899-12-30T00:00:00Z</cp:lastPrinted>
  <dcterms:modified xsi:type="dcterms:W3CDTF">2016-10-09T16:55:49Z</dcterms:modified>
  <cp:revision>281</cp:revision>
  <dc:subject>高考资源网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